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58FE-0B30-4886-B978-09575932E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3BFA-6D1C-4B41-85AF-3037408A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20CA-C888-4118-A44C-CA46B656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B967-7A8E-4F13-ACE8-B2D4B737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2AE9-133C-49E9-8738-6B2285CB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46EF-2191-4C80-8D5E-8E482DEF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F430-0BF4-46C9-ADC3-594F6D47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396E-E630-4E11-8B6D-67A1B036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3282-5B47-4010-9670-87E1D687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7D49-D517-4E4C-A53E-819E85AF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C6AC-A34D-474C-9740-D7F3B3C9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EA42-2F67-4ABE-8BD5-E17A5C86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3DF6-89F3-47EA-B6C8-C4BAD6EEA69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وضوع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250920" y="3213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موضوعاتها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رابط مستقيم 17"/>
          <p:cNvSpPr/>
          <p:nvPr/>
        </p:nvSpPr>
        <p:spPr>
          <a:xfrm flipH="1">
            <a:off x="4571640" y="357336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رابط مستقيم 18"/>
          <p:cNvSpPr/>
          <p:nvPr/>
        </p:nvSpPr>
        <p:spPr>
          <a:xfrm flipH="1">
            <a:off x="4566960" y="3830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رابط كسهم مستقيم 19"/>
          <p:cNvCxnSpPr/>
          <p:nvPr/>
        </p:nvCxnSpPr>
        <p:spPr>
          <a:xfrm flipH="1">
            <a:off x="8456040" y="4581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عنوان 1"/>
          <p:cNvSpPr/>
          <p:nvPr/>
        </p:nvSpPr>
        <p:spPr>
          <a:xfrm>
            <a:off x="250920" y="443700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تذكر الخلق بالبعث والجزاء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رابط مستقيم 31"/>
          <p:cNvSpPr/>
          <p:nvPr/>
        </p:nvSpPr>
        <p:spPr>
          <a:xfrm flipH="1">
            <a:off x="8817120" y="3824280"/>
            <a:ext cx="2880" cy="159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رابط كسهم مستقيم 32"/>
          <p:cNvCxnSpPr/>
          <p:nvPr/>
        </p:nvCxnSpPr>
        <p:spPr>
          <a:xfrm flipH="1">
            <a:off x="8456040" y="414972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" name="عنوان 1"/>
          <p:cNvSpPr/>
          <p:nvPr/>
        </p:nvSpPr>
        <p:spPr>
          <a:xfrm>
            <a:off x="324000" y="3954600"/>
            <a:ext cx="813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ذكر أنواع التوحيد الثلاث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قد تضمنت هذه السورة وهو سر عظمتها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يان معاني القرآن العظي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فتتاح القرآن بها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وان 1"/>
          <p:cNvSpPr/>
          <p:nvPr/>
        </p:nvSpPr>
        <p:spPr>
          <a:xfrm>
            <a:off x="179280" y="249228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أمر بتكرارها في كل ركع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" name="رابط كسهم مستقيم 15"/>
          <p:cNvCxnSpPr/>
          <p:nvPr/>
        </p:nvCxnSpPr>
        <p:spPr>
          <a:xfrm flipH="1">
            <a:off x="8458920" y="542304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عنوان 1"/>
          <p:cNvSpPr/>
          <p:nvPr/>
        </p:nvSpPr>
        <p:spPr>
          <a:xfrm>
            <a:off x="255600" y="5280120"/>
            <a:ext cx="8209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حذير من سلوك طريق المغضوب عليهم والضالي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رابط كسهم مستقيم 21"/>
          <p:cNvCxnSpPr/>
          <p:nvPr/>
        </p:nvCxnSpPr>
        <p:spPr>
          <a:xfrm flipH="1">
            <a:off x="8458920" y="4990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عنوان 1"/>
          <p:cNvSpPr/>
          <p:nvPr/>
        </p:nvSpPr>
        <p:spPr>
          <a:xfrm>
            <a:off x="326880" y="4797360"/>
            <a:ext cx="8137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صراط المستقيم هو  الدين الذي لا يقبل الله سوا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179280" y="1773360"/>
            <a:ext cx="86918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فضلها وأهميت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3"/>
          <a:stretch/>
        </p:blipFill>
        <p:spPr>
          <a:xfrm>
            <a:off x="3206880" y="1125360"/>
            <a:ext cx="5664240" cy="520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4"/>
          <a:stretch/>
        </p:blipFill>
        <p:spPr>
          <a:xfrm>
            <a:off x="525600" y="2481120"/>
            <a:ext cx="8367480" cy="947880"/>
          </a:xfrm>
          <a:prstGeom prst="rect">
            <a:avLst/>
          </a:prstGeom>
          <a:ln w="0">
            <a:noFill/>
          </a:ln>
        </p:spPr>
      </p:pic>
      <p:sp>
        <p:nvSpPr>
          <p:cNvPr id="102" name="عنوان 1"/>
          <p:cNvSpPr/>
          <p:nvPr/>
        </p:nvSpPr>
        <p:spPr>
          <a:xfrm>
            <a:off x="200160" y="3500280"/>
            <a:ext cx="869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ا ركن من أركان الصلاة لا تتم إلا ب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5"/>
          <a:stretch/>
        </p:blipFill>
        <p:spPr>
          <a:xfrm>
            <a:off x="4361040" y="4070520"/>
            <a:ext cx="4533840" cy="62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6"/>
          <a:stretch/>
        </p:blipFill>
        <p:spPr>
          <a:xfrm>
            <a:off x="4146480" y="5300640"/>
            <a:ext cx="4724640" cy="58428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179280" y="4724280"/>
            <a:ext cx="869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حمد أول مذكور في السو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عنوان 1"/>
          <p:cNvSpPr/>
          <p:nvPr/>
        </p:nvSpPr>
        <p:spPr>
          <a:xfrm>
            <a:off x="179280" y="5950080"/>
            <a:ext cx="86918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ا ليست من الفاتحة على القول الراج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907920"/>
            <a:ext cx="9166320" cy="1352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80406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7" name="عنوان 1"/>
          <p:cNvSpPr/>
          <p:nvPr/>
        </p:nvSpPr>
        <p:spPr>
          <a:xfrm>
            <a:off x="250920" y="1916280"/>
            <a:ext cx="8599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سورة من القرآن الكريم عدد آياتها (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) وهي تقرأ في الصلاة وجوباً وهي شفاء لمن قرأ 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4572000" y="1197000"/>
            <a:ext cx="41655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ول السورة وعدد آيا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فاتح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ها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7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27160" y="2637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هي أول سورة نزلت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امل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27160" y="3213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بسملة في الفاتح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يست من الفاتحة على القول الراجح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27160" y="3789360"/>
            <a:ext cx="86659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ان البسملة ليست من الفاتح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لالة الحديث القدسي :(قسمت الصلاة بيني وبين عبدي .. الحديث) فبدأ بـ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مستطيل 1"/>
          <p:cNvSpPr/>
          <p:nvPr/>
        </p:nvSpPr>
        <p:spPr>
          <a:xfrm>
            <a:off x="250920" y="5699160"/>
            <a:ext cx="8642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Calibri"/>
              </a:rPr>
              <a:t>وعلى هذا القول من ترك البسملة في الصلاة فصلاته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: صحيح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4425840" y="4653000"/>
            <a:ext cx="439416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ضل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ردت عدة أحاديث تدل على فضل سورة الفاتحة وعظيم شأنها ومن ذلك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250920" y="2000160"/>
            <a:ext cx="8665920" cy="1357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179280" y="3429000"/>
            <a:ext cx="8775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ضل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6709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ماء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170028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لسورة أسماء كثيرة من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17"/>
          <p:cNvSpPr/>
          <p:nvPr/>
        </p:nvSpPr>
        <p:spPr>
          <a:xfrm flipH="1">
            <a:off x="4571640" y="2060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18"/>
          <p:cNvSpPr/>
          <p:nvPr/>
        </p:nvSpPr>
        <p:spPr>
          <a:xfrm flipH="1">
            <a:off x="4566960" y="2317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19"/>
          <p:cNvCxnSpPr/>
          <p:nvPr/>
        </p:nvCxnSpPr>
        <p:spPr>
          <a:xfrm flipH="1">
            <a:off x="8456040" y="30682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250920" y="292428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(الحمد) : لأن الحمد أول مذكور في السور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31"/>
          <p:cNvSpPr/>
          <p:nvPr/>
        </p:nvSpPr>
        <p:spPr>
          <a:xfrm flipH="1">
            <a:off x="8817120" y="2311560"/>
            <a:ext cx="2880" cy="75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32"/>
          <p:cNvCxnSpPr/>
          <p:nvPr/>
        </p:nvCxnSpPr>
        <p:spPr>
          <a:xfrm flipH="1">
            <a:off x="8456040" y="263700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324000" y="2443320"/>
            <a:ext cx="813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(الفاتحة) : لأنها فاتحة الكتاب وأول سورة ذكرت في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5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6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